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2D1-B0F6-454B-8C42-FF310ABC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C80-8413-4F70-9C68-9977D85B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022-9E63-4166-A0A9-C5F5D5D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A00-CBC8-4D4B-B3A8-68FC08B3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2DB-1152-4D79-9E21-1D7837297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13DA-166D-4A8D-80CE-B8C6CEF2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BF7-03D5-49CC-901D-ADA725E9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13F6-60F6-42DA-9864-8D2B3916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5C1-7CD2-4D4B-B963-C9CECA51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9FD-9239-413D-808D-3E7564BE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762-4F01-4D66-9705-8C53F125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001-47AA-442F-906D-78AA3A53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E07-C222-40F9-82BC-2C01D9F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406B-DDD7-40D4-8458-BB12D2B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E3DD-FFEF-433D-A4DB-E82018AF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8873-B27E-442F-A5E2-142D8F6A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253-6EAE-44BF-B2EB-7F5A85E9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43A-432C-41A6-883D-D30216FC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5C8-150E-4E8B-8595-0066D7F4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8879-2BBC-4CDD-9FE2-8173F43C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E24-EA6C-44A7-A936-AC1D9DEE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0D2-42AB-4CD2-A748-0193B0FE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CD4-D3D8-4169-90F9-3D1E509C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564-FE3F-4D37-A4F4-88FB0DCD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920E-0BEA-486F-A07F-DDE70A12423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7AD-4DAD-47FF-A7DB-0093C909ABEB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gymnasticscoaching.com/new/wp-content/uploads/2009/08/Nasti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rformance Ap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Febr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87972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32120" cy="204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268280"/>
            <a:ext cx="2735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Revision Question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125360"/>
            <a:ext cx="754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  Select a skill/technique from below and describe it in terms of the following: Preparation, Action, Recov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ehand Overhead Clear, Forehand Smash, Forehand Overhead Dropshot, High serv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 Describe what you did to compare your performance with a model performer? (Include PAR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3 Select 2 methods of practice and describe how they were used to develop that skill/technique.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4 Motivation, concentration and feedback are important factors that effect your performance in any ac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lect one o these factors and explain how it affected your performanc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10-02-22T12:42:26Z</dcterms:modified>
  <cp:revision>63</cp:revision>
  <dc:subject/>
  <dc:title>Slide 1</dc:title>
</cp:coreProperties>
</file>